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ab Equipment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9" name="Picture 3" descr="D:\My Documents\New Chemistry\Lab Powerpoints\Equipment\glassware.jpg"/>
          <p:cNvPicPr/>
          <p:nvPr/>
        </p:nvPicPr>
        <p:blipFill>
          <a:blip r:embed="rId1"/>
          <a:stretch/>
        </p:blipFill>
        <p:spPr>
          <a:xfrm>
            <a:off x="2743200" y="1752480"/>
            <a:ext cx="358128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est Tube Rack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Text Box 1029"/>
          <p:cNvSpPr/>
          <p:nvPr/>
        </p:nvSpPr>
        <p:spPr>
          <a:xfrm>
            <a:off x="609480" y="4724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st tube racks are for holding and organizing test tubes on the laboratory counter. Plastic racks may melt in contact with very hot test tub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2" name="Picture 1030" descr="D:\My Documents\New Chemistry\Lab Powerpoints\Equipment\testtuberacks.jpg"/>
          <p:cNvPicPr/>
          <p:nvPr/>
        </p:nvPicPr>
        <p:blipFill>
          <a:blip r:embed="rId1"/>
          <a:stretch/>
        </p:blipFill>
        <p:spPr>
          <a:xfrm>
            <a:off x="1447920" y="914400"/>
            <a:ext cx="60958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ubber Stopp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4" name="Picture 3" descr="D:\My Documents\New Chemistry\Lab Powerpoints\Equipment\rubberstoppers.jpg"/>
          <p:cNvPicPr/>
          <p:nvPr/>
        </p:nvPicPr>
        <p:blipFill>
          <a:blip r:embed="rId1"/>
          <a:stretch/>
        </p:blipFill>
        <p:spPr>
          <a:xfrm>
            <a:off x="152280" y="1600200"/>
            <a:ext cx="4267440" cy="3197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4648320" y="1752480"/>
            <a:ext cx="42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ubber stoppers are used to close containers to avoid spillage or contaminati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648320" y="3200400"/>
            <a:ext cx="42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tainers should never be heated when there is a stopper in plac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572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pot Plat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8" name="Picture 4" descr="spotplates"/>
          <p:cNvPicPr/>
          <p:nvPr/>
        </p:nvPicPr>
        <p:blipFill>
          <a:blip r:embed="rId1"/>
          <a:stretch/>
        </p:blipFill>
        <p:spPr>
          <a:xfrm>
            <a:off x="5410080" y="1676520"/>
            <a:ext cx="2965680" cy="304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685800" y="1752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ot plates are used when we want to perform many small scale reactions at one time. We will use these many times during the year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tch Glas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33520" y="2286000"/>
            <a:ext cx="382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watch glass is used to hold a small amount of solid, such as the product of a reacti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2" name="Picture 4" descr="D:\My Documents\New Chemistry\Lab Powerpoints\Equipment\watchgl.jpg"/>
          <p:cNvPicPr/>
          <p:nvPr/>
        </p:nvPicPr>
        <p:blipFill>
          <a:blip r:embed="rId1"/>
          <a:stretch/>
        </p:blipFill>
        <p:spPr>
          <a:xfrm>
            <a:off x="4343400" y="1447920"/>
            <a:ext cx="45720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lass Stir Rod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952880" y="213372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glass rod is used to manually stir solutions. It can also be used to transfer a single drop of a soluti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5" name="Picture 4" descr="D:\My Documents\New Chemistry\Lab Powerpoints\Equipment\rod.jpg"/>
          <p:cNvPicPr/>
          <p:nvPr/>
        </p:nvPicPr>
        <p:blipFill>
          <a:blip r:embed="rId1"/>
          <a:stretch/>
        </p:blipFill>
        <p:spPr>
          <a:xfrm>
            <a:off x="304920" y="1371600"/>
            <a:ext cx="426708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edicine Dropp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257800" y="144792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medicine dropper is used to transfer a small volume of liquid (less than one mL)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8" name="Picture 4" descr="D:\My Documents\New Chemistry\Lab Powerpoints\Equipment\dropper.jpg"/>
          <p:cNvPicPr/>
          <p:nvPr/>
        </p:nvPicPr>
        <p:blipFill>
          <a:blip r:embed="rId1"/>
          <a:stretch/>
        </p:blipFill>
        <p:spPr>
          <a:xfrm>
            <a:off x="457200" y="838080"/>
            <a:ext cx="4648320" cy="3602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17680" y="4770360"/>
            <a:ext cx="78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 top of each medicine dropper is a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rubber bulb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Line 8"/>
          <p:cNvSpPr/>
          <p:nvPr/>
        </p:nvSpPr>
        <p:spPr>
          <a:xfrm flipH="1" flipV="1">
            <a:off x="1066320" y="3276360"/>
            <a:ext cx="228600" cy="15238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tmus Pap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2" name="Picture 3" descr="D:\My Documents\New Chemistry\Lab Powerpoints\Equipment\limus.jpg"/>
          <p:cNvPicPr/>
          <p:nvPr/>
        </p:nvPicPr>
        <p:blipFill>
          <a:blip r:embed="rId1"/>
          <a:stretch/>
        </p:blipFill>
        <p:spPr>
          <a:xfrm>
            <a:off x="304920" y="1066680"/>
            <a:ext cx="5029200" cy="37720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5562720" y="14479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Re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litmus paper is used to identify bas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562720" y="289548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ccff"/>
                </a:solidFill>
                <a:uFillTx/>
                <a:latin typeface="Comic Sans MS"/>
              </a:rPr>
              <a:t>Blu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litmus paper is used to identify acid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orcep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6" name="Picture 3" descr="D:\My Documents\New Chemistry\Lab Powerpoints\Equipment\forceps.jpg"/>
          <p:cNvPicPr/>
          <p:nvPr/>
        </p:nvPicPr>
        <p:blipFill>
          <a:blip r:embed="rId1"/>
          <a:stretch/>
        </p:blipFill>
        <p:spPr>
          <a:xfrm>
            <a:off x="2514600" y="1523880"/>
            <a:ext cx="4267080" cy="1933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914400" y="3809880"/>
            <a:ext cx="74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rceps (or tweezers) are used to pick up small object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unnel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62120" y="1905120"/>
            <a:ext cx="281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funnel is used to aid in the transfer of liquid from one vessel to another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0" name="Picture 4" descr="D:\My Documents\New Chemistry\Lab Powerpoints\Equipment\funnel.jpg"/>
          <p:cNvPicPr/>
          <p:nvPr/>
        </p:nvPicPr>
        <p:blipFill>
          <a:blip r:embed="rId1"/>
          <a:stretch/>
        </p:blipFill>
        <p:spPr>
          <a:xfrm>
            <a:off x="3886200" y="1600200"/>
            <a:ext cx="458784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hr Pipe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715000" y="2590920"/>
            <a:ext cx="313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Mohr pipet measures and delivers exact volumes of liquid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3" name="Picture 4" descr="D:\My Documents\New Chemistry\Lab Powerpoints\Equipment\mohrpip.jpg"/>
          <p:cNvPicPr/>
          <p:nvPr/>
        </p:nvPicPr>
        <p:blipFill>
          <a:blip r:embed="rId1"/>
          <a:stretch/>
        </p:blipFill>
        <p:spPr>
          <a:xfrm>
            <a:off x="380880" y="1600200"/>
            <a:ext cx="495324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eaker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533520" y="1905120"/>
            <a:ext cx="374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eakers hold solids or liquids that will not release gases when reacted or are unlikely to splatter if stirred or heated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2" name="Picture 4" descr="D:\My Documents\New Chemistry\Lab Powerpoints\Equipment\beaker.jpg"/>
          <p:cNvPicPr/>
          <p:nvPr/>
        </p:nvPicPr>
        <p:blipFill>
          <a:blip r:embed="rId1"/>
          <a:stretch/>
        </p:blipFill>
        <p:spPr>
          <a:xfrm>
            <a:off x="4419720" y="1523880"/>
            <a:ext cx="434340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sh Bott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876920" y="2133720"/>
            <a:ext cx="396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wash bottle has a spout that delivers a wash solution to a specific area. Distilled water is the only liquid that should be used in a wash bottl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6" name="Picture 4" descr="D:\My Documents\New Chemistry\Lab Powerpoints\Equipment\washbot.jpg"/>
          <p:cNvPicPr/>
          <p:nvPr/>
        </p:nvPicPr>
        <p:blipFill>
          <a:blip r:embed="rId1"/>
          <a:stretch/>
        </p:blipFill>
        <p:spPr>
          <a:xfrm>
            <a:off x="304920" y="1676520"/>
            <a:ext cx="441936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eighing Bo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" y="2286000"/>
            <a:ext cx="458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eighing boats are used to weigh solids that will be transferred to another vessel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Picture 4" descr="D:\My Documents\New Chemistry\Lab Powerpoints\Equipment\boat.jpg"/>
          <p:cNvPicPr/>
          <p:nvPr/>
        </p:nvPicPr>
        <p:blipFill>
          <a:blip r:embed="rId1"/>
          <a:stretch/>
        </p:blipFill>
        <p:spPr>
          <a:xfrm>
            <a:off x="4572000" y="1523880"/>
            <a:ext cx="45720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895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atula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04920" y="1600200"/>
            <a:ext cx="40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atulas are used to dispense solid chemicals from their containers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04920" y="3124080"/>
            <a:ext cx="390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emicals should never be transferred with your bare hand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Picture 6" descr="D:\My Documents\New Chemistry\Lab Powerpoints\Equipment\spatulas.jpg"/>
          <p:cNvPicPr/>
          <p:nvPr/>
        </p:nvPicPr>
        <p:blipFill>
          <a:blip r:embed="rId1"/>
          <a:stretch/>
        </p:blipFill>
        <p:spPr>
          <a:xfrm>
            <a:off x="4191120" y="30492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eaker Tong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5" name="Picture 3" descr="D:\My Documents\New Chemistry\Lab Powerpoints\Equipment\beakertongs.jpg"/>
          <p:cNvPicPr/>
          <p:nvPr/>
        </p:nvPicPr>
        <p:blipFill>
          <a:blip r:embed="rId1"/>
          <a:stretch/>
        </p:blipFill>
        <p:spPr>
          <a:xfrm>
            <a:off x="457200" y="144792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4952880" y="2209680"/>
            <a:ext cx="34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eaker tongs are used to move beakers containing hot liquid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unsen Burn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" name="Picture 3" descr="D:\My Documents\New Chemistry\Lab Powerpoints\Equipment\bunsenburner.jpg"/>
          <p:cNvPicPr/>
          <p:nvPr/>
        </p:nvPicPr>
        <p:blipFill>
          <a:blip r:embed="rId1"/>
          <a:stretch/>
        </p:blipFill>
        <p:spPr>
          <a:xfrm>
            <a:off x="685800" y="17524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4724280" y="2209680"/>
            <a:ext cx="405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unsen burners are used for the heating of nonvolatile liquids and solid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vaporating Dish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1" name="Picture 3" descr="D:\My Documents\New Chemistry\Lab Powerpoints\Equipment\evaporatingdish.jpg"/>
          <p:cNvPicPr/>
          <p:nvPr/>
        </p:nvPicPr>
        <p:blipFill>
          <a:blip r:embed="rId1"/>
          <a:stretch/>
        </p:blipFill>
        <p:spPr>
          <a:xfrm>
            <a:off x="304920" y="17524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419720" y="2209680"/>
            <a:ext cx="413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vaporating dish is used for the heating of stable solid compounds and element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ruci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Picture 3" descr="D:\My Documents\New Chemistry\Lab Powerpoints\Equipment\crucible1.jpg"/>
          <p:cNvPicPr/>
          <p:nvPr/>
        </p:nvPicPr>
        <p:blipFill>
          <a:blip r:embed="rId1"/>
          <a:stretch/>
        </p:blipFill>
        <p:spPr>
          <a:xfrm>
            <a:off x="457200" y="1828800"/>
            <a:ext cx="3733920" cy="2797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4479840" y="2179800"/>
            <a:ext cx="390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rucibles are used for heating certain solids, particularly metals, to very high temperatur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ay Triang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7" name="Picture 3" descr="D:\My Documents\New Chemistry\Lab Powerpoints\Equipment\claytriangle.jpg"/>
          <p:cNvPicPr/>
          <p:nvPr/>
        </p:nvPicPr>
        <p:blipFill>
          <a:blip r:embed="rId1"/>
          <a:stretch/>
        </p:blipFill>
        <p:spPr>
          <a:xfrm>
            <a:off x="4572000" y="1828800"/>
            <a:ext cx="3886200" cy="29113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457200" y="2209680"/>
            <a:ext cx="390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clay triangle is used as a support for porcelain crucibles when being heated over a Bunsen burner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rucible Tong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0" name="Picture 3" descr="D:\My Documents\New Chemistry\Lab Powerpoints\Equipment\crucibletongs.jpg"/>
          <p:cNvPicPr/>
          <p:nvPr/>
        </p:nvPicPr>
        <p:blipFill>
          <a:blip r:embed="rId1"/>
          <a:stretch/>
        </p:blipFill>
        <p:spPr>
          <a:xfrm>
            <a:off x="4952880" y="18288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533520" y="2133720"/>
            <a:ext cx="41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r handling hot crucibles; also used to pick up other hot objects.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o be used for picking up beakers!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lass Plat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3" descr="D:\My Documents\New Chemistry\Lab Powerpoints\Equipment\glassplate.jpg"/>
          <p:cNvPicPr/>
          <p:nvPr/>
        </p:nvPicPr>
        <p:blipFill>
          <a:blip r:embed="rId1"/>
          <a:stretch/>
        </p:blipFill>
        <p:spPr>
          <a:xfrm>
            <a:off x="4952880" y="16002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746280" y="1798560"/>
            <a:ext cx="367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lass plates provide a surface for semi-micro scale experiments, such as drop reactions and testing of acids and bas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rlenmeyer Flask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648320" y="2133720"/>
            <a:ext cx="397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rlenmeyer flasks hold solids or liquids that may release gases during a reaction or that are likely to splatter if stirred or heated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5" name="Picture 4" descr="D:\My Documents\New Chemistry\Lab Powerpoints\Equipment\erlenm.jpg"/>
          <p:cNvPicPr/>
          <p:nvPr/>
        </p:nvPicPr>
        <p:blipFill>
          <a:blip r:embed="rId1"/>
          <a:stretch/>
        </p:blipFill>
        <p:spPr>
          <a:xfrm>
            <a:off x="380880" y="1676520"/>
            <a:ext cx="40546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riangular Fi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791320" y="190512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riangular files are used primarily to cut glass rod, a skill that your instructor will share with you when it becomes useful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7" name="Picture 5" descr="triangularfile"/>
          <p:cNvPicPr/>
          <p:nvPr/>
        </p:nvPicPr>
        <p:blipFill>
          <a:blip r:embed="rId1"/>
          <a:stretch/>
        </p:blipFill>
        <p:spPr>
          <a:xfrm>
            <a:off x="228600" y="2133720"/>
            <a:ext cx="52293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ingstands and their Component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9" name="Picture 4" descr="ringstand"/>
          <p:cNvPicPr/>
          <p:nvPr/>
        </p:nvPicPr>
        <p:blipFill>
          <a:blip r:embed="rId1"/>
          <a:stretch/>
        </p:blipFill>
        <p:spPr>
          <a:xfrm>
            <a:off x="5257800" y="16002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380880" y="19051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ingstands are a safe and convenient way to perform reactions that require heating using a Bunsen burner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ingstands and their Component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ron Ring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2" name="Picture 3" descr="D:\My Documents\New Chemistry\Lab Powerpoints\Equipment\ironring.jpg"/>
          <p:cNvPicPr/>
          <p:nvPr/>
        </p:nvPicPr>
        <p:blipFill>
          <a:blip r:embed="rId1"/>
          <a:stretch/>
        </p:blipFill>
        <p:spPr>
          <a:xfrm>
            <a:off x="4724280" y="19810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517680" y="2408400"/>
            <a:ext cx="405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ron rings connect to a ringstand and provide a stable, elevated platform for the reacti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ingstands and their Component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Utility Clamp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3" descr="D:\My Documents\New Chemistry\Lab Powerpoints\Equipment\utilityclamp.jpg"/>
          <p:cNvPicPr/>
          <p:nvPr/>
        </p:nvPicPr>
        <p:blipFill>
          <a:blip r:embed="rId1"/>
          <a:stretch/>
        </p:blipFill>
        <p:spPr>
          <a:xfrm>
            <a:off x="4876920" y="1981080"/>
            <a:ext cx="3886200" cy="2911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457200" y="2362320"/>
            <a:ext cx="420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tility clamps are used to secure test tubes, distillation columns, and burets to the ringstand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ingstands and their Component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ouble Buret Clamp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2133720"/>
            <a:ext cx="312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ouble Buret clamps are used to burets – long graduated tubes used in titrati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5" descr="doubleclamp"/>
          <p:cNvPicPr/>
          <p:nvPr/>
        </p:nvPicPr>
        <p:blipFill>
          <a:blip r:embed="rId1"/>
          <a:stretch/>
        </p:blipFill>
        <p:spPr>
          <a:xfrm>
            <a:off x="3733920" y="2133720"/>
            <a:ext cx="52387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ingstands and their Component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ire Gauz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1" name="Picture 3" descr="D:\My Documents\New Chemistry\Lab Powerpoints\Equipment\wiregauze.jpg"/>
          <p:cNvPicPr/>
          <p:nvPr/>
        </p:nvPicPr>
        <p:blipFill>
          <a:blip r:embed="rId1"/>
          <a:stretch/>
        </p:blipFill>
        <p:spPr>
          <a:xfrm>
            <a:off x="4876920" y="1981080"/>
            <a:ext cx="3886200" cy="2911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289080" y="2332080"/>
            <a:ext cx="443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ire gauze sits on the iron ring to provide a place to stand a beaker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04920" y="38098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 older wire gauze, the white material is asbestos!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ssed Fiber Pad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80880" y="1676520"/>
            <a:ext cx="314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4” x 4” square of ceramic fiber, it provides a surface for hot beakers so that the beaker does not come in contact with a cold countertop and shatter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6" name="Picture 4" descr="D:\My Documents\New Chemistry\Lab Powerpoints\Equipment\fiberpad.jpg"/>
          <p:cNvPicPr/>
          <p:nvPr/>
        </p:nvPicPr>
        <p:blipFill>
          <a:blip r:embed="rId1"/>
          <a:stretch/>
        </p:blipFill>
        <p:spPr>
          <a:xfrm>
            <a:off x="3657600" y="13716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ik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8" name="Picture 3" descr="striker"/>
          <p:cNvPicPr/>
          <p:nvPr/>
        </p:nvPicPr>
        <p:blipFill>
          <a:blip r:embed="rId1"/>
          <a:stretch/>
        </p:blipFill>
        <p:spPr>
          <a:xfrm>
            <a:off x="4419720" y="1066680"/>
            <a:ext cx="4497120" cy="3370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212760" y="126540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rikers are used to light Bunsen burners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28600" y="2438280"/>
            <a:ext cx="413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flints on strikers are expensive. Do not operate the striker repeatedly just to see the sparks!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lorence Flask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7" name="Picture 1027" descr="D:\My Documents\New Chemistry\Lab Powerpoints\Equipment\florenceflask.jpg"/>
          <p:cNvPicPr/>
          <p:nvPr/>
        </p:nvPicPr>
        <p:blipFill>
          <a:blip r:embed="rId1"/>
          <a:stretch/>
        </p:blipFill>
        <p:spPr>
          <a:xfrm>
            <a:off x="4572000" y="17524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28"/>
          <p:cNvSpPr/>
          <p:nvPr/>
        </p:nvSpPr>
        <p:spPr>
          <a:xfrm>
            <a:off x="380880" y="220968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arely used in first year chemistry, it is used for the mixing of chemicals. Narrow neck prevents splash exposur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raduated Cylind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2438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graduated cylinder is used to measure volumes of liquid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1" name="Picture 4" descr="D:\My Documents\New Chemistry\Lab Powerpoints\Equipment\bothgrad.jpg"/>
          <p:cNvPicPr/>
          <p:nvPr/>
        </p:nvPicPr>
        <p:blipFill>
          <a:blip r:embed="rId1"/>
          <a:stretch/>
        </p:blipFill>
        <p:spPr>
          <a:xfrm>
            <a:off x="3733920" y="1523880"/>
            <a:ext cx="52578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9880" y="4568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as Collecting Bott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" name="Picture 4" descr="gasbottle"/>
          <p:cNvPicPr/>
          <p:nvPr/>
        </p:nvPicPr>
        <p:blipFill>
          <a:blip r:embed="rId1"/>
          <a:stretch/>
        </p:blipFill>
        <p:spPr>
          <a:xfrm>
            <a:off x="609480" y="609480"/>
            <a:ext cx="2524320" cy="3705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733920" y="1752480"/>
            <a:ext cx="510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e use gas collecting bottles when large volumes of gases are produced, and must be collected by the displacement of water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Test Tub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" name="Picture 5" descr="D:\My Documents\New Chemistry\Lab Powerpoints\Equipment\testtubes.jpg"/>
          <p:cNvPicPr/>
          <p:nvPr/>
        </p:nvPicPr>
        <p:blipFill>
          <a:blip r:embed="rId1"/>
          <a:stretch/>
        </p:blipFill>
        <p:spPr>
          <a:xfrm>
            <a:off x="1752480" y="15238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3657600" y="990720"/>
            <a:ext cx="39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3 x 100 mm test tub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0292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0 x 75 mm test tub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36440" y="210348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gnition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ub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Line 9"/>
          <p:cNvSpPr/>
          <p:nvPr/>
        </p:nvSpPr>
        <p:spPr>
          <a:xfrm>
            <a:off x="1447920" y="2743200"/>
            <a:ext cx="685800" cy="152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AutoShape 10"/>
          <p:cNvSpPr/>
          <p:nvPr/>
        </p:nvSpPr>
        <p:spPr>
          <a:xfrm rot="16228200">
            <a:off x="4651200" y="453600"/>
            <a:ext cx="457200" cy="2597400"/>
          </a:xfrm>
          <a:custGeom>
            <a:avLst/>
            <a:gdLst>
              <a:gd name="textAreaLeft" fmla="*/ 0 w 457200"/>
              <a:gd name="textAreaRight" fmla="*/ 164880 w 457200"/>
              <a:gd name="textAreaTop" fmla="*/ 67680 h 2597400"/>
              <a:gd name="textAreaBottom" fmla="*/ 2529720 h 259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AutoShape 11"/>
          <p:cNvSpPr/>
          <p:nvPr/>
        </p:nvSpPr>
        <p:spPr>
          <a:xfrm rot="5361600">
            <a:off x="6418800" y="3791520"/>
            <a:ext cx="459000" cy="952560"/>
          </a:xfrm>
          <a:custGeom>
            <a:avLst/>
            <a:gdLst>
              <a:gd name="textAreaLeft" fmla="*/ 0 w 459000"/>
              <a:gd name="textAreaRight" fmla="*/ 165600 w 459000"/>
              <a:gd name="textAreaTop" fmla="*/ 24840 h 952560"/>
              <a:gd name="textAreaBottom" fmla="*/ 927720 h 95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est Tube Hold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Text Box 1027"/>
          <p:cNvSpPr/>
          <p:nvPr/>
        </p:nvSpPr>
        <p:spPr>
          <a:xfrm>
            <a:off x="609480" y="24382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test tube holder is useful for holding a test tube which is too hot to handl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5" name="Picture 1028" descr="D:\My Documents\New Chemistry\Lab Powerpoints\Equipment\holder.jpg"/>
          <p:cNvPicPr/>
          <p:nvPr/>
        </p:nvPicPr>
        <p:blipFill>
          <a:blip r:embed="rId1"/>
          <a:stretch/>
        </p:blipFill>
        <p:spPr>
          <a:xfrm>
            <a:off x="4114800" y="1371600"/>
            <a:ext cx="481644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est Tube Brush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7" name="Picture 1027" descr="D:\My Documents\New Chemistry\Lab Powerpoints\Equipment\ttbrushes.jpg"/>
          <p:cNvPicPr/>
          <p:nvPr/>
        </p:nvPicPr>
        <p:blipFill>
          <a:blip r:embed="rId1"/>
          <a:stretch/>
        </p:blipFill>
        <p:spPr>
          <a:xfrm>
            <a:off x="4343400" y="152388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28"/>
          <p:cNvSpPr/>
          <p:nvPr/>
        </p:nvSpPr>
        <p:spPr>
          <a:xfrm>
            <a:off x="304920" y="1600200"/>
            <a:ext cx="390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st tube brushes are used to clean test tubes and graduated cylinder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Text Box 1029"/>
          <p:cNvSpPr/>
          <p:nvPr/>
        </p:nvSpPr>
        <p:spPr>
          <a:xfrm>
            <a:off x="380880" y="3124080"/>
            <a:ext cx="413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rcing a large brush into a small test tube will often break the tub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01:12:41Z</dcterms:created>
  <dc:creator>Andrew Allan</dc:creator>
  <dc:description/>
  <dc:language>en-US</dc:language>
  <cp:lastModifiedBy>Marian</cp:lastModifiedBy>
  <dcterms:modified xsi:type="dcterms:W3CDTF">2010-08-23T01:14:34Z</dcterms:modified>
  <cp:revision>71</cp:revision>
  <dc:subject/>
  <dc:title>PowerPoint Presentation</dc:title>
</cp:coreProperties>
</file>